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ACC-278C-4C54-B8C6-D993D0F3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A21-4DAC-46F1-8711-0963F808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D79-AB50-4C44-AF6A-22E53725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709-0D38-43F4-8D34-03BBADD0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466-0D4C-48EE-B27F-AAFE82F8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5EC-EDE1-46AA-8ED0-168BE65F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4D8-64E3-47C3-961C-591055B7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829-508D-4971-94D0-FDB0FBD9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8BE-75C9-4D64-B9CE-0D4884B0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D85-7685-4C82-95A2-49B6F1E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4D8-E19C-4852-8158-168E92A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B64-F059-4AEB-A2FD-0EE7DE21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D305-9608-44E8-8CD2-18B81AE62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1600200"/>
            <a:ext cx="3733920" cy="286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3-30-12 Use the gov. chart from yester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branch of our gov. makes the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House of Rep. AND the Senate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advises the Presid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0"/>
            <a:ext cx="6553080" cy="162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3-3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No homewor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Get out Constitution 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atapulta_large"/>
          <p:cNvPicPr/>
          <p:nvPr/>
        </p:nvPicPr>
        <p:blipFill>
          <a:blip r:embed="rId1"/>
          <a:srcRect l="7059" t="0" r="0" b="17461"/>
          <a:stretch/>
        </p:blipFill>
        <p:spPr>
          <a:xfrm>
            <a:off x="3733920" y="0"/>
            <a:ext cx="5638680" cy="4724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0" y="6384960"/>
            <a:ext cx="5105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constitutionfacts.com/index.cfm?page=quiz.cf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0" y="6384960"/>
            <a:ext cx="5105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constitutionfacts.com/index.cfm?page=quiz.cf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495680" y="4876920"/>
            <a:ext cx="3886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bbc.co.uk/schools/romans/army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213372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28600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gis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28600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21:37Z</dcterms:created>
  <dc:creator>sramsey</dc:creator>
  <dc:description/>
  <dc:language>en-US</dc:language>
  <cp:lastModifiedBy>poweruser</cp:lastModifiedBy>
  <dcterms:modified xsi:type="dcterms:W3CDTF">2012-03-30T12:31:27Z</dcterms:modified>
  <cp:revision>10</cp:revision>
  <dc:subject/>
  <dc:title>Agenda, Mar. 2, 2006</dc:title>
</cp:coreProperties>
</file>